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D48-5CCB-4D1D-BA80-4CCD0863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F73-71EB-463B-AD93-9E66D19A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5AE-0118-4103-9C91-CD6B73AA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E62-6779-4352-898A-65D4A1CB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AB67-9153-42A7-BCB2-AAEDE1AD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63AF-2493-442C-A058-6926579B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EA50-2F31-4B19-98E1-3A150318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1E7-FF4B-48A9-8DDB-CEF201D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0D69-4B95-4409-8C0C-0117BC82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EDCF-81DC-4782-8343-6F62650C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86C1-886B-422A-8597-2D3203E1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F79-5677-44C8-BA3E-5AF19204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BB6E-9FC6-4C60-A498-7C947228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E288-5B9D-4A8B-B035-E7617C5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5172-4BC7-4F46-B4E0-D4FD8DE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E23-C771-47A0-8D97-D3CD484D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38B-88FA-4329-A6A3-18087DF2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44B-A1A1-4372-B939-63FC897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DA0-D9B7-4774-BCF3-D9547DB9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811-6DF0-4888-BC4B-DE1CA28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CB5-53BC-4303-9960-4ACCE0F1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5B9-F421-44DD-A303-01BA3B3B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777-8410-4DAE-B12F-BA9EA647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2EE-4995-48C3-94F9-444470D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822-E785-4EBF-B5AC-E9A02279AD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566A-E2C4-4360-A573-9C899F45BB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Me llamo __________ Clase 6NH(601) La fecha es el 13 de diciembre del 201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Verdana"/>
              </a:rPr>
              <a:t>Propósito # 20:</a:t>
            </a: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uál es tu cuarto favorit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Verdana"/>
              </a:rPr>
              <a:t>Actividad Inicia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pia y resp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u familia, ¿ es grande o pequeñ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uántos personas hay en tu famili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ómo se llama tu madre? ¿Y tu padr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ómo se llama tu abuela? ¿y tu abuelo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6094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cc"/>
                </a:solidFill>
                <a:latin typeface="Verdana"/>
              </a:rPr>
              <a:t>La Sa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83200" y="3263760"/>
            <a:ext cx="253368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cc"/>
                </a:solidFill>
                <a:latin typeface="Verdana"/>
              </a:rPr>
              <a:t>El Come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3680" y="757080"/>
            <a:ext cx="3238200" cy="206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 flipV="1">
            <a:off x="3657600" y="10666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4419720"/>
            <a:ext cx="3095640" cy="2270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4800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El Dorm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604980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La Rec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52880" y="5105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876560" y="5867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486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143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v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733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n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0"/>
            <a:ext cx="6629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¿Qué cuarto 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44960" y="658800"/>
            <a:ext cx="27417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ff"/>
                </a:solidFill>
                <a:latin typeface="Verdana"/>
              </a:rPr>
              <a:t>La Coci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33680" y="1823760"/>
            <a:ext cx="1407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itch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898800" cy="2660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419720" y="12949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3678120"/>
            <a:ext cx="4127760" cy="2818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95280" y="4114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El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12408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14240" y="2469960"/>
            <a:ext cx="1704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Verdana"/>
              </a:rPr>
              <a:t>La Ca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327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6386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omic Sans MS"/>
              </a:rPr>
              <a:t>La Casa Pri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77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ivat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1560" y="770040"/>
            <a:ext cx="3105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Verdana"/>
              </a:rPr>
              <a:t>El Edific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Verdana"/>
              </a:rPr>
              <a:t>El Aparta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29000" cy="3129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91320" y="1523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3733920" y="10663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886200" y="49528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Ejercicio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41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X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r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Palabra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. R18-R19, en voz al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Historieta 1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. R2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mpleta p. R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733920"/>
            <a:ext cx="6629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Tarea # 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52:41Z</dcterms:created>
  <dc:creator>Helen Zumaeta</dc:creator>
  <dc:description/>
  <dc:language>en-US</dc:language>
  <cp:lastModifiedBy>Helen Zumaeta</cp:lastModifiedBy>
  <dcterms:modified xsi:type="dcterms:W3CDTF">2012-12-11T22:25:48Z</dcterms:modified>
  <cp:revision>13</cp:revision>
  <dc:subject/>
  <dc:title>Me llamo __________ Clase 6NH La fecha es el 26 de marzo del 2012</dc:title>
</cp:coreProperties>
</file>